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2.jpeg" ContentType="image/jpeg"/>
  <Override PartName="/ppt/media/image8.png" ContentType="image/png"/>
  <Override PartName="/ppt/media/image5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0F5-C4EA-4CEA-ACCC-F0D74403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7AD-B4EB-44AE-B30F-E9D894AFCB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0DDB-83D1-446B-B700-7838E12B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919C-BED2-4504-8C9D-AE7BEEC5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73531-9CE6-4D3B-AED1-0D700D4F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EE29-8093-4932-B55C-2E32371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0AE74-C748-4C5F-A00F-33ADEEE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3FD3-2D68-46C1-B74C-09C8B3D5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F52F1-0858-42C3-ABB9-697B28E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A260-8612-46BD-8C18-EB8E34EF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2C2C-F6EC-4617-B05A-57213A6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59AEE-AA86-4A9A-B805-CFFCA6D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89001-70B7-4887-B601-1FF22E18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33737-8BAE-4DC4-B7A1-22447332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236000" y="6381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cc"/>
                </a:solidFill>
                <a:latin typeface="Verdana"/>
              </a:rPr>
              <a:t>Defendi LA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7236000" y="63817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3333cc"/>
                </a:solidFill>
                <a:latin typeface="Verdana"/>
              </a:rPr>
              <a:t>Defendi LA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21D2-9397-4B1E-AF53-32E6C9C462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 u="sng">
                <a:solidFill>
                  <a:srgbClr val="00b0f0"/>
                </a:solidFill>
                <a:uFillTx/>
                <a:latin typeface="Comic Sans MS"/>
              </a:rPr>
              <a:t>DO NOW!!!!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omic Sans MS"/>
              </a:rPr>
              <a:t>What is an allegory?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What was </a:t>
            </a:r>
            <a:r>
              <a:rPr b="1" lang="en-US" sz="4500" spc="-1" strike="noStrike" u="sng">
                <a:solidFill>
                  <a:srgbClr val="ffff00"/>
                </a:solidFill>
                <a:uFillTx/>
                <a:latin typeface="Comic Sans MS"/>
              </a:rPr>
              <a:t>Terrible Things</a:t>
            </a: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 an allegory for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92d05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92d050"/>
                </a:solidFill>
                <a:uFillTx/>
                <a:latin typeface="Comic Sans MS"/>
              </a:rPr>
              <a:t>How do you know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9360" y="2133720"/>
            <a:ext cx="268020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uppy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564000" y="2060640"/>
            <a:ext cx="4608360" cy="1556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t worry so much. It is just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puppy lov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you will grow out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uppy"/>
          <p:cNvPicPr/>
          <p:nvPr/>
        </p:nvPicPr>
        <p:blipFill>
          <a:blip r:embed="rId1"/>
          <a:stretch/>
        </p:blipFill>
        <p:spPr>
          <a:xfrm>
            <a:off x="395280" y="3357720"/>
            <a:ext cx="2712960" cy="3124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203640" y="4724280"/>
            <a:ext cx="514836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ove between tee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1"/>
          <p:cNvSpPr/>
          <p:nvPr/>
        </p:nvSpPr>
        <p:spPr>
          <a:xfrm>
            <a:off x="5003640" y="5157720"/>
            <a:ext cx="172908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50920" y="515772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24000" y="1700280"/>
            <a:ext cx="41050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My friend _______ you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et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a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tick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003640" y="1700280"/>
            <a:ext cx="410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he has always been the ________ of her father's ey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u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11280" y="3068640"/>
            <a:ext cx="331128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find someone attr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facy"/>
          <p:cNvPicPr/>
          <p:nvPr/>
        </p:nvPicPr>
        <p:blipFill>
          <a:blip r:embed="rId1"/>
          <a:stretch/>
        </p:blipFill>
        <p:spPr>
          <a:xfrm>
            <a:off x="2484360" y="450864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5076720" y="3284640"/>
            <a:ext cx="3672000" cy="2043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loved by someone, normally an older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eye"/>
          <p:cNvPicPr/>
          <p:nvPr/>
        </p:nvPicPr>
        <p:blipFill>
          <a:blip r:embed="rId2"/>
          <a:stretch/>
        </p:blipFill>
        <p:spPr>
          <a:xfrm>
            <a:off x="7380360" y="5232240"/>
            <a:ext cx="13651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932360" y="5157720"/>
            <a:ext cx="266400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95280" y="5516640"/>
            <a:ext cx="2448000" cy="576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24000" y="170028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e finally decided to  ________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ollow the track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all it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ollow another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932360" y="170028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nce she moved out, it was clear their marriage was 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n the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ut of the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n th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39640" y="3141720"/>
            <a:ext cx="331164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ree that the relationship has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292720" y="3786120"/>
            <a:ext cx="3311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95280" y="2060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o when are you two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gett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844720" y="2997360"/>
            <a:ext cx="3311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ing the k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knot_19088_lg"/>
          <p:cNvPicPr/>
          <p:nvPr/>
        </p:nvPicPr>
        <p:blipFill>
          <a:blip r:embed="rId1"/>
          <a:stretch/>
        </p:blipFill>
        <p:spPr>
          <a:xfrm>
            <a:off x="3184560" y="4797360"/>
            <a:ext cx="2755800" cy="944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itched"/>
          <p:cNvPicPr/>
          <p:nvPr/>
        </p:nvPicPr>
        <p:blipFill>
          <a:blip r:embed="rId2"/>
          <a:stretch/>
        </p:blipFill>
        <p:spPr>
          <a:xfrm>
            <a:off x="6804000" y="3573360"/>
            <a:ext cx="162864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wedding_clipart_42"/>
          <p:cNvPicPr/>
          <p:nvPr/>
        </p:nvPicPr>
        <p:blipFill>
          <a:blip r:embed="rId3"/>
          <a:stretch/>
        </p:blipFill>
        <p:spPr>
          <a:xfrm>
            <a:off x="468360" y="378936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268360" y="2852640"/>
            <a:ext cx="4392720" cy="764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t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eet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4572000" y="2997360"/>
            <a:ext cx="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33498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24861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3718080" y="40417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3564000" y="2349360"/>
            <a:ext cx="2016000" cy="6480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68360" y="3933720"/>
            <a:ext cx="2016000" cy="6476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5902200" y="1628640"/>
            <a:ext cx="3241800" cy="13737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formal evening occasion where people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 flipH="1">
            <a:off x="4500720" y="1700280"/>
            <a:ext cx="13665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77840" y="1628640"/>
            <a:ext cx="3098880" cy="1800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arty where everyone wear a costume on a particular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154764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5" descr="ball"/>
          <p:cNvPicPr/>
          <p:nvPr/>
        </p:nvPicPr>
        <p:blipFill>
          <a:blip r:embed="rId1"/>
          <a:stretch/>
        </p:blipFill>
        <p:spPr>
          <a:xfrm>
            <a:off x="6948360" y="2997360"/>
            <a:ext cx="1594080" cy="1589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fancydress"/>
          <p:cNvPicPr/>
          <p:nvPr/>
        </p:nvPicPr>
        <p:blipFill>
          <a:blip r:embed="rId2"/>
          <a:stretch/>
        </p:blipFill>
        <p:spPr>
          <a:xfrm>
            <a:off x="395280" y="4673520"/>
            <a:ext cx="2160720" cy="1492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7"/>
          <p:cNvSpPr/>
          <p:nvPr/>
        </p:nvSpPr>
        <p:spPr>
          <a:xfrm rot="19729200">
            <a:off x="3420000" y="2349360"/>
            <a:ext cx="23047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 rot="19729200">
            <a:off x="179640" y="3499920"/>
            <a:ext cx="298944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ancy-dress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ffffff"/>
                </a:solidFill>
                <a:uFillTx/>
                <a:latin typeface="Comic Sans MS"/>
              </a:rPr>
              <a:t>When You or Someone is Very Angry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24000" y="2205000"/>
            <a:ext cx="4248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e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920" y="3284640"/>
            <a:ext cx="424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6720" y="4508640"/>
            <a:ext cx="4608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are off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see red"/>
          <p:cNvPicPr/>
          <p:nvPr/>
        </p:nvPicPr>
        <p:blipFill>
          <a:blip r:embed="rId1"/>
          <a:stretch/>
        </p:blipFill>
        <p:spPr>
          <a:xfrm>
            <a:off x="6635880" y="2084400"/>
            <a:ext cx="1896840" cy="2281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black-sheep"/>
          <p:cNvPicPr/>
          <p:nvPr/>
        </p:nvPicPr>
        <p:blipFill>
          <a:blip r:embed="rId2"/>
          <a:stretch/>
        </p:blipFill>
        <p:spPr>
          <a:xfrm>
            <a:off x="539640" y="3933720"/>
            <a:ext cx="2054160" cy="2048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ss-cardenvelope"/>
          <p:cNvPicPr/>
          <p:nvPr/>
        </p:nvPicPr>
        <p:blipFill>
          <a:blip r:embed="rId3"/>
          <a:stretch/>
        </p:blipFill>
        <p:spPr>
          <a:xfrm>
            <a:off x="4716360" y="5157720"/>
            <a:ext cx="1287720" cy="1700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2"/>
          <p:cNvSpPr/>
          <p:nvPr/>
        </p:nvSpPr>
        <p:spPr>
          <a:xfrm rot="19729200">
            <a:off x="4210560" y="2133000"/>
            <a:ext cx="16570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 rot="19729200">
            <a:off x="1980360" y="3357360"/>
            <a:ext cx="217944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black m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 rot="19729200">
            <a:off x="5219640" y="4581000"/>
            <a:ext cx="308628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one Christma’s car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4859280" y="6354720"/>
            <a:ext cx="4105440" cy="5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324000" y="5445000"/>
            <a:ext cx="3527280" cy="5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 u="sng">
                <a:solidFill>
                  <a:srgbClr val="ffffff"/>
                </a:solidFill>
                <a:uFillTx/>
                <a:latin typeface="Comic Sans MS"/>
              </a:rPr>
              <a:t>Money Expre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202392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costs _______ to buy all these Christmas pres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 arm and a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mou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4896000" y="2023920"/>
            <a:ext cx="424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y had to ____ to get their son insured to dr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ut the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o under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ay through the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003640" y="3801960"/>
            <a:ext cx="360072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nd a great amount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68360" y="4005360"/>
            <a:ext cx="360036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ver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395280" y="4941720"/>
            <a:ext cx="3024360" cy="5032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1916280"/>
            <a:ext cx="85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y are________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ir anniversary this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ashing the 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plash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laying the soap opera 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42920" y="3065400"/>
            <a:ext cx="71294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ying a lot for an importan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mare-and-foal"/>
          <p:cNvPicPr/>
          <p:nvPr/>
        </p:nvPicPr>
        <p:blipFill>
          <a:blip r:embed="rId1"/>
          <a:stretch/>
        </p:blipFill>
        <p:spPr>
          <a:xfrm>
            <a:off x="6732720" y="4106880"/>
            <a:ext cx="2057400" cy="18432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0"/>
          <p:cNvSpPr/>
          <p:nvPr/>
        </p:nvSpPr>
        <p:spPr>
          <a:xfrm>
            <a:off x="6804000" y="3933720"/>
            <a:ext cx="1944720" cy="223200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326880 h 2232000"/>
              <a:gd name="textAreaBottom" fmla="*/ 19051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om rags to r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203640" y="4724280"/>
            <a:ext cx="5940360" cy="1800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he had become Google’s CEO – obviously now he is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load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His daughter will inherit everything. She is sitting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95280" y="2955960"/>
            <a:ext cx="518472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 family has always been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s poor 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hurchmice"/>
          <p:cNvPicPr/>
          <p:nvPr/>
        </p:nvPicPr>
        <p:blipFill>
          <a:blip r:embed="rId1"/>
          <a:stretch/>
        </p:blipFill>
        <p:spPr>
          <a:xfrm>
            <a:off x="6012000" y="2205000"/>
            <a:ext cx="2895480" cy="247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gold mine"/>
          <p:cNvPicPr/>
          <p:nvPr/>
        </p:nvPicPr>
        <p:blipFill>
          <a:blip r:embed="rId2"/>
          <a:stretch/>
        </p:blipFill>
        <p:spPr>
          <a:xfrm>
            <a:off x="611280" y="4292640"/>
            <a:ext cx="2054160" cy="2232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1"/>
          <p:cNvSpPr/>
          <p:nvPr/>
        </p:nvSpPr>
        <p:spPr>
          <a:xfrm>
            <a:off x="1763640" y="3500280"/>
            <a:ext cx="29512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urch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6229440" y="6089760"/>
            <a:ext cx="2950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a gold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411280" y="1844640"/>
            <a:ext cx="475308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e can’t stop shopping: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mone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ole"/>
          <p:cNvPicPr/>
          <p:nvPr/>
        </p:nvPicPr>
        <p:blipFill>
          <a:blip r:embed="rId1"/>
          <a:stretch/>
        </p:blipFill>
        <p:spPr>
          <a:xfrm>
            <a:off x="395280" y="1844640"/>
            <a:ext cx="1922400" cy="28796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5724360" y="2349360"/>
            <a:ext cx="3168720" cy="1068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rns a hole in her p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556000" y="3789360"/>
            <a:ext cx="468144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ople in such a situation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 late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clipart"/>
          <p:cNvPicPr/>
          <p:nvPr/>
        </p:nvPicPr>
        <p:blipFill>
          <a:blip r:embed="rId2"/>
          <a:stretch/>
        </p:blipFill>
        <p:spPr>
          <a:xfrm>
            <a:off x="7451640" y="3716280"/>
            <a:ext cx="1548000" cy="13827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0"/>
          <p:cNvSpPr/>
          <p:nvPr/>
        </p:nvSpPr>
        <p:spPr>
          <a:xfrm>
            <a:off x="3132000" y="5229360"/>
            <a:ext cx="5724720" cy="13737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uckily, she sells bunches of flowers she had grown herself. It is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mone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437080" y="6237360"/>
            <a:ext cx="3095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old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 rot="19963800">
            <a:off x="3851640" y="4220640"/>
            <a:ext cx="2448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n a pe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old rope"/>
          <p:cNvPicPr/>
          <p:nvPr/>
        </p:nvPicPr>
        <p:blipFill>
          <a:blip r:embed="rId3"/>
          <a:stretch/>
        </p:blipFill>
        <p:spPr>
          <a:xfrm>
            <a:off x="1116000" y="5072040"/>
            <a:ext cx="1871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81080" y="549360"/>
            <a:ext cx="9506160" cy="2303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Euphemisms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March 11,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Money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79280" y="2349360"/>
            <a:ext cx="8569440" cy="9471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 don't you buy her at least a small box of chocolates?  You're such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scrooge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scrooge"/>
          <p:cNvPicPr/>
          <p:nvPr/>
        </p:nvPicPr>
        <p:blipFill>
          <a:blip r:embed="rId1"/>
          <a:stretch/>
        </p:blipFill>
        <p:spPr>
          <a:xfrm>
            <a:off x="2916360" y="3645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Tio Patinhas"/>
          <p:cNvPicPr/>
          <p:nvPr/>
        </p:nvPicPr>
        <p:blipFill>
          <a:blip r:embed="rId2"/>
          <a:stretch/>
        </p:blipFill>
        <p:spPr>
          <a:xfrm>
            <a:off x="2641680" y="1333440"/>
            <a:ext cx="40640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6a00d8341bfac553ef00e55040e3de8833-640wi"/>
          <p:cNvPicPr/>
          <p:nvPr/>
        </p:nvPicPr>
        <p:blipFill>
          <a:blip r:embed="rId1"/>
          <a:stretch/>
        </p:blipFill>
        <p:spPr>
          <a:xfrm>
            <a:off x="395280" y="3429000"/>
            <a:ext cx="2841480" cy="314172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8"/>
          <p:cNvSpPr/>
          <p:nvPr/>
        </p:nvSpPr>
        <p:spPr>
          <a:xfrm>
            <a:off x="2122560" y="692280"/>
            <a:ext cx="4681440" cy="3816360"/>
          </a:xfrm>
          <a:custGeom>
            <a:avLst/>
            <a:gdLst>
              <a:gd name="textAreaLeft" fmla="*/ 1091520 w 4681440"/>
              <a:gd name="textAreaRight" fmla="*/ 3588480 w 4681440"/>
              <a:gd name="textAreaTop" fmla="*/ 402120 h 3816360"/>
              <a:gd name="textAreaBottom" fmla="*/ 2416680 h 381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132000" y="1197000"/>
            <a:ext cx="26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ar your heart on your slee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5796000" y="3933720"/>
            <a:ext cx="266364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me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4643280" y="5013360"/>
            <a:ext cx="3600720" cy="155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w other people how you are fee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In You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omic Sans MS"/>
              </a:rPr>
              <a:t>Research the Euphemisms on your “Dangerous Diction”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Find the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Literal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Find its meaning in the context of the </a:t>
            </a:r>
            <a:r>
              <a:rPr b="0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92d050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2d050"/>
                </a:solidFill>
                <a:latin typeface="Comic Sans MS"/>
              </a:rPr>
              <a:t>Analyze how the two are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mic Sans MS"/>
              </a:rPr>
              <a:t>DIFFERENT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ind the Definitions to the Vocabulary words o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BACK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f the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8160" cy="1050840"/>
          </a:xfrm>
          <a:prstGeom prst="rect">
            <a:avLst/>
          </a:prstGeom>
          <a:noFill/>
          <a:ln w="0">
            <a:noFill/>
          </a:ln>
        </p:spPr>
        <p:txBody>
          <a:bodyPr tIns="27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What is a Euphemis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tIns="126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A neutral or positive expression instead of one that carries negative associations.</a:t>
            </a: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Euphemism's make something sound more appealing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lynnschneiderbooks.files.wordpress.com/2011/05/euphemism-fired.jpg"/>
          <p:cNvPicPr/>
          <p:nvPr/>
        </p:nvPicPr>
        <p:blipFill>
          <a:blip r:embed="rId1"/>
          <a:stretch/>
        </p:blipFill>
        <p:spPr>
          <a:xfrm>
            <a:off x="3492360" y="2421000"/>
            <a:ext cx="5112000" cy="3103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Euphemism – Languag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08360" y="1413000"/>
            <a:ext cx="5543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term comes from the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Greek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word meaning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“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TO SPEAK WITH GOOD WORDS”</a:t>
            </a:r>
            <a:br>
              <a:rPr sz="2500"/>
            </a:b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involves substituting a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more pleasant way 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of saying something </a:t>
            </a:r>
            <a:r>
              <a:rPr b="1" lang="en-US" sz="2500" spc="-1" strike="noStrike" u="sng">
                <a:solidFill>
                  <a:srgbClr val="ffff00"/>
                </a:solidFill>
                <a:uFillTx/>
                <a:latin typeface="Comic Sans MS"/>
                <a:ea typeface="Courier New"/>
              </a:rPr>
              <a:t>for a blunt</a:t>
            </a:r>
            <a:r>
              <a:rPr b="1" lang="en-US" sz="2500" spc="-1" strike="noStrike">
                <a:solidFill>
                  <a:srgbClr val="ffffff"/>
                </a:solidFill>
                <a:latin typeface="Comic Sans MS"/>
                <a:ea typeface="Courier New"/>
              </a:rPr>
              <a:t> or more direct w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as1.wdpromedia.com/media/abd/europe/greece-vacations/santorini-coastline-greece-tours.jpg"/>
          <p:cNvPicPr/>
          <p:nvPr/>
        </p:nvPicPr>
        <p:blipFill>
          <a:blip r:embed="rId1"/>
          <a:srcRect l="21885" t="0" r="0" b="0"/>
          <a:stretch/>
        </p:blipFill>
        <p:spPr>
          <a:xfrm>
            <a:off x="5467320" y="1557360"/>
            <a:ext cx="3281400" cy="180036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  <p:pic>
        <p:nvPicPr>
          <p:cNvPr id="101" name="Picture 8" descr="https://encrypted-tbn3.gstatic.com/images?q=tbn:ANd9GcT0S_L8TyFj0n0zYgWJtrXLTiZawifW51O717dK_IadTbWBoHQz9Q"/>
          <p:cNvPicPr/>
          <p:nvPr/>
        </p:nvPicPr>
        <p:blipFill>
          <a:blip r:embed="rId2"/>
          <a:stretch/>
        </p:blipFill>
        <p:spPr>
          <a:xfrm>
            <a:off x="5467320" y="3716280"/>
            <a:ext cx="3281400" cy="216072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  <p:pic>
        <p:nvPicPr>
          <p:cNvPr id="102" name="Picture 10" descr="http://test.nwbg.eu/wp-content/uploads/2014/06/speak-correctly-510.jpg"/>
          <p:cNvPicPr/>
          <p:nvPr/>
        </p:nvPicPr>
        <p:blipFill>
          <a:blip r:embed="rId3"/>
          <a:srcRect l="10368" t="0" r="8922" b="0"/>
          <a:stretch/>
        </p:blipFill>
        <p:spPr>
          <a:xfrm>
            <a:off x="1332000" y="5126040"/>
            <a:ext cx="2217600" cy="1546200"/>
          </a:xfrm>
          <a:prstGeom prst="rect">
            <a:avLst/>
          </a:prstGeom>
          <a:ln w="76320">
            <a:solidFill>
              <a:srgbClr val="72bfc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148360" y="573408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8"/>
          <p:cNvSpPr/>
          <p:nvPr/>
        </p:nvSpPr>
        <p:spPr>
          <a:xfrm>
            <a:off x="5076720" y="1844640"/>
            <a:ext cx="38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er uncle _____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wa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s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ve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ssed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68360" y="5300640"/>
            <a:ext cx="230328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468360" y="18446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ha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____ our cat ____ as she was very i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 off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60360" y="3716280"/>
            <a:ext cx="37026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imal eutha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48497_sick_cat_mth"/>
          <p:cNvPicPr/>
          <p:nvPr/>
        </p:nvPicPr>
        <p:blipFill>
          <a:blip r:embed="rId1"/>
          <a:stretch/>
        </p:blipFill>
        <p:spPr>
          <a:xfrm>
            <a:off x="2843280" y="5013360"/>
            <a:ext cx="14288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tombstone-clipart"/>
          <p:cNvPicPr/>
          <p:nvPr/>
        </p:nvPicPr>
        <p:blipFill>
          <a:blip r:embed="rId2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tombstone-clipart"/>
          <p:cNvPicPr/>
          <p:nvPr/>
        </p:nvPicPr>
        <p:blipFill>
          <a:blip r:embed="rId3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6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7" descr="tombstone-clipart"/>
          <p:cNvPicPr/>
          <p:nvPr/>
        </p:nvPicPr>
        <p:blipFill>
          <a:blip r:embed="rId4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9"/>
          <p:cNvSpPr/>
          <p:nvPr/>
        </p:nvSpPr>
        <p:spPr>
          <a:xfrm>
            <a:off x="5139000" y="3573360"/>
            <a:ext cx="10159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0" descr="tombstone-clipart"/>
          <p:cNvPicPr/>
          <p:nvPr/>
        </p:nvPicPr>
        <p:blipFill>
          <a:blip r:embed="rId5"/>
          <a:stretch/>
        </p:blipFill>
        <p:spPr>
          <a:xfrm>
            <a:off x="6877080" y="2997360"/>
            <a:ext cx="1714320" cy="18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260280"/>
            <a:ext cx="9144000" cy="1656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ff"/>
                </a:solidFill>
                <a:uFillTx/>
                <a:latin typeface="Comic Sans MS"/>
              </a:rPr>
              <a:t>Humorous Euphemisms for Dea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5400" y="2421000"/>
            <a:ext cx="5150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He has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gone to meet his mak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276720" y="3068640"/>
            <a:ext cx="5543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 won't worry about money when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I'm six feet und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971640" y="5734080"/>
            <a:ext cx="4248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ast I heard about him, he i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PushUpDaisiesPost"/>
          <p:cNvPicPr/>
          <p:nvPr/>
        </p:nvPicPr>
        <p:blipFill>
          <a:blip r:embed="rId1"/>
          <a:stretch/>
        </p:blipFill>
        <p:spPr>
          <a:xfrm>
            <a:off x="5364000" y="4065480"/>
            <a:ext cx="3456000" cy="2748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maker"/>
          <p:cNvPicPr/>
          <p:nvPr/>
        </p:nvPicPr>
        <p:blipFill>
          <a:blip r:embed="rId2"/>
          <a:stretch/>
        </p:blipFill>
        <p:spPr>
          <a:xfrm>
            <a:off x="660240" y="3100320"/>
            <a:ext cx="2399040" cy="2416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 rot="19485000">
            <a:off x="1950120" y="5333760"/>
            <a:ext cx="375300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shing up dai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5076720" y="5084640"/>
            <a:ext cx="3816360" cy="129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4360" y="5516640"/>
            <a:ext cx="2014560" cy="504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11280" y="20606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teve is _____ jobs at the mo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ing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76720" y="2060640"/>
            <a:ext cx="38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there a  ______ nearb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dy/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troom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44040" y="3716280"/>
            <a:ext cx="258408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98880" y="3716280"/>
            <a:ext cx="2099520" cy="581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th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042-unemployed-man"/>
          <p:cNvPicPr/>
          <p:nvPr/>
        </p:nvPicPr>
        <p:blipFill>
          <a:blip r:embed="rId1"/>
          <a:stretch/>
        </p:blipFill>
        <p:spPr>
          <a:xfrm>
            <a:off x="2666880" y="400536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bathroom"/>
          <p:cNvPicPr/>
          <p:nvPr/>
        </p:nvPicPr>
        <p:blipFill>
          <a:blip r:embed="rId2"/>
          <a:stretch/>
        </p:blipFill>
        <p:spPr>
          <a:xfrm>
            <a:off x="5148360" y="3429000"/>
            <a:ext cx="136044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00"/>
                </a:solidFill>
                <a:uFillTx/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Comic Sans MS"/>
              </a:rPr>
              <a:t>Euphem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2060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you heard that Katy has __________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360" y="2924280"/>
            <a:ext cx="3370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in the famil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oven"/>
          <p:cNvPicPr/>
          <p:nvPr/>
        </p:nvPicPr>
        <p:blipFill>
          <a:blip r:embed="rId1"/>
          <a:stretch/>
        </p:blipFill>
        <p:spPr>
          <a:xfrm>
            <a:off x="3276720" y="3716280"/>
            <a:ext cx="2442960" cy="314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un_in_the_oven_funny_couple_costume"/>
          <p:cNvPicPr/>
          <p:nvPr/>
        </p:nvPicPr>
        <p:blipFill>
          <a:blip r:embed="rId2"/>
          <a:stretch/>
        </p:blipFill>
        <p:spPr>
          <a:xfrm>
            <a:off x="539640" y="3789360"/>
            <a:ext cx="2320920" cy="27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un-in-the-oven-t-shirt"/>
          <p:cNvPicPr/>
          <p:nvPr/>
        </p:nvPicPr>
        <p:blipFill>
          <a:blip r:embed="rId3"/>
          <a:stretch/>
        </p:blipFill>
        <p:spPr>
          <a:xfrm>
            <a:off x="6227640" y="3933720"/>
            <a:ext cx="219096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2268360" y="2852640"/>
            <a:ext cx="439272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bun in the 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260280"/>
            <a:ext cx="9144000" cy="1440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 u="sng">
                <a:solidFill>
                  <a:srgbClr val="ffffff"/>
                </a:solidFill>
                <a:uFillTx/>
                <a:latin typeface="Comic Sans MS"/>
              </a:rPr>
              <a:t>Relationship and Feel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259920" y="4005360"/>
            <a:ext cx="2280960" cy="58140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ppy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4029480" y="404172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5940360" y="429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3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4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6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1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5940360" y="429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5"/>
          <p:cNvSpPr/>
          <p:nvPr/>
        </p:nvSpPr>
        <p:spPr>
          <a:xfrm>
            <a:off x="33480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6"/>
          <p:cNvSpPr/>
          <p:nvPr/>
        </p:nvSpPr>
        <p:spPr>
          <a:xfrm>
            <a:off x="24843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7"/>
          <p:cNvSpPr/>
          <p:nvPr/>
        </p:nvSpPr>
        <p:spPr>
          <a:xfrm>
            <a:off x="6732720" y="3716280"/>
            <a:ext cx="2089080" cy="1556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e Lovey-Do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8"/>
          <p:cNvSpPr/>
          <p:nvPr/>
        </p:nvSpPr>
        <p:spPr>
          <a:xfrm>
            <a:off x="5942160" y="429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1"/>
          <p:cNvSpPr/>
          <p:nvPr/>
        </p:nvSpPr>
        <p:spPr>
          <a:xfrm>
            <a:off x="3349800" y="3860640"/>
            <a:ext cx="2592360" cy="1008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2"/>
          <p:cNvSpPr/>
          <p:nvPr/>
        </p:nvSpPr>
        <p:spPr>
          <a:xfrm>
            <a:off x="248616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6:20:57Z</dcterms:created>
  <dc:creator>Tom M. Riddle</dc:creator>
  <dc:description/>
  <dc:language>en-US</dc:language>
  <cp:lastModifiedBy>Shettle, Meghan</cp:lastModifiedBy>
  <dcterms:modified xsi:type="dcterms:W3CDTF">2015-03-11T11:52:03Z</dcterms:modified>
  <cp:revision>23</cp:revision>
  <dc:subject/>
  <dc:title>Euphemisms and Idiomatic Expressions</dc:title>
</cp:coreProperties>
</file>